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0952-66FE-4547-8172-86B1762F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F85-D33B-48E5-98D5-219F5758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ABF6-2301-454B-933F-4F7B3952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235-FAE0-4B2A-8BF2-30B3C5E0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1373-ACFC-4487-9370-55467318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5C3-C366-490C-BCA7-BB0077F2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DC3-7A13-45DB-820D-580AC4C0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EBC-9F16-4169-BA32-F855E506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AD0E-863C-4328-A8EA-2B5DA760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709-1DCA-4B02-957C-07B97AD9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030-C24D-4015-95B3-EDFD226A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B31-5DE2-4464-9337-F6CBC1CA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86D5-8231-4277-B73A-1756EEAB45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задания №15 на ЕГЭ 2019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32360" y="5661000"/>
            <a:ext cx="216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лова Н.А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МЛ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6840720" cy="5940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7962120" y="60930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Овал 2"/>
          <p:cNvSpPr/>
          <p:nvPr/>
        </p:nvSpPr>
        <p:spPr>
          <a:xfrm>
            <a:off x="2340000" y="1268280"/>
            <a:ext cx="21600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767720" cy="532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1"/>
          <p:cNvSpPr/>
          <p:nvPr/>
        </p:nvSpPr>
        <p:spPr>
          <a:xfrm>
            <a:off x="7888680" y="58770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5688000" cy="644832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7888680" y="630864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710000" y="620640"/>
            <a:ext cx="54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решение нераве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Объект 3"/>
              <p:cNvSpPr txBox="1"/>
              <p:nvPr/>
            </p:nvSpPr>
            <p:spPr>
              <a:xfrm>
                <a:off x="468360" y="1628640"/>
                <a:ext cx="8507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TextBox 4"/>
          <p:cNvSpPr/>
          <p:nvPr/>
        </p:nvSpPr>
        <p:spPr>
          <a:xfrm>
            <a:off x="4002120" y="29973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Объект 6"/>
              <p:cNvSpPr txBox="1"/>
              <p:nvPr/>
            </p:nvSpPr>
            <p:spPr>
              <a:xfrm>
                <a:off x="5292720" y="3068640"/>
                <a:ext cx="8636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2498040" y="765000"/>
            <a:ext cx="41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887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7817400" y="6165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6324480" cy="61056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ая соединительная линия 3"/>
          <p:cNvSpPr/>
          <p:nvPr/>
        </p:nvSpPr>
        <p:spPr>
          <a:xfrm>
            <a:off x="1979640" y="393372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6624720" cy="5567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7889760" y="60930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вал 2"/>
          <p:cNvSpPr/>
          <p:nvPr/>
        </p:nvSpPr>
        <p:spPr>
          <a:xfrm>
            <a:off x="5292720" y="907920"/>
            <a:ext cx="2087640" cy="324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5789520" cy="5315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767304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2"/>
          <p:cNvSpPr/>
          <p:nvPr/>
        </p:nvSpPr>
        <p:spPr>
          <a:xfrm>
            <a:off x="1476360" y="907920"/>
            <a:ext cx="914400" cy="79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4895640" cy="642132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7888680" y="630864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5545080" cy="6568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7745400" y="63086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3"/>
          <p:cNvSpPr/>
          <p:nvPr/>
        </p:nvSpPr>
        <p:spPr>
          <a:xfrm>
            <a:off x="1042920" y="4149720"/>
            <a:ext cx="1297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6267600" cy="645804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7962120" y="6165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5"/>
          <p:cNvSpPr/>
          <p:nvPr/>
        </p:nvSpPr>
        <p:spPr>
          <a:xfrm>
            <a:off x="2050920" y="1341360"/>
            <a:ext cx="2174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7"/>
          <p:cNvSpPr/>
          <p:nvPr/>
        </p:nvSpPr>
        <p:spPr>
          <a:xfrm>
            <a:off x="2195640" y="1557360"/>
            <a:ext cx="225360" cy="279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вал 8"/>
          <p:cNvSpPr/>
          <p:nvPr/>
        </p:nvSpPr>
        <p:spPr>
          <a:xfrm>
            <a:off x="1763640" y="1700280"/>
            <a:ext cx="21600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30T15:05:03Z</dcterms:created>
  <dc:creator>User</dc:creator>
  <dc:description/>
  <dc:language>en-US</dc:language>
  <cp:lastModifiedBy>User</cp:lastModifiedBy>
  <dcterms:modified xsi:type="dcterms:W3CDTF">2021-04-25T11:27:09Z</dcterms:modified>
  <cp:revision>9</cp:revision>
  <dc:subject/>
  <dc:title>Презентация PowerPoint</dc:title>
</cp:coreProperties>
</file>